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8F5-6FCB-47E2-93CE-5ED3DE38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C49-8278-4C13-A9CA-065EC39A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263-7DFA-4C54-93C9-27C95BBE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999-861A-4B31-8D4A-7E1C4467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8AF-C85C-4633-AD03-96C67F72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9EF-82F4-471E-A799-A1CF253F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DF2-FBFE-4652-A727-AF73094F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C7C-C0CB-4F58-8DFB-8948A8DD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9E7-8C0C-4479-A22E-46D05975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E9B-52CB-4A82-A593-F65A0891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18B-721A-42C5-AB01-8FA9F799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D87-5EB7-4DA2-8F78-069AE19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6139-94E8-4257-B6FC-3FFBFFE21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Kapitolinischer_Pythagoras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hilolaus" TargetMode="External"/><Relationship Id="rId2" Type="http://schemas.openxmlformats.org/officeDocument/2006/relationships/hyperlink" Target="http://en.wikipedia.org/wiki/Alcmaeon_of_Croton" TargetMode="External"/><Relationship Id="rId3" Type="http://schemas.openxmlformats.org/officeDocument/2006/relationships/hyperlink" Target="http://en.wikipedia.org/wiki/Plato" TargetMode="External"/><Relationship Id="rId4" Type="http://schemas.openxmlformats.org/officeDocument/2006/relationships/hyperlink" Target="http://en.wikipedia.org/wiki/Euclid" TargetMode="External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Forte"/>
              </a:rPr>
              <a:t>Pythagora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Forte"/>
              </a:rPr>
              <a:t>and his theor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5013360"/>
            <a:ext cx="3240000" cy="162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2000" y="5300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Forte"/>
              </a:rPr>
              <a:t>By Elly How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stellar"/>
              </a:rPr>
              <a:t>Pythagoras'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cc"/>
                </a:solidFill>
                <a:latin typeface="Georgia"/>
              </a:rPr>
              <a:t>Pythagoras (</a:t>
            </a:r>
            <a:r>
              <a:rPr b="0" lang="en-US" sz="2800" spc="-1" strike="noStrike">
                <a:solidFill>
                  <a:srgbClr val="cc00cc"/>
                </a:solidFill>
                <a:latin typeface="Georgia"/>
              </a:rPr>
              <a:t>Πυθαγόρας)</a:t>
            </a:r>
            <a:r>
              <a:rPr b="0" lang="en-GB" sz="2800" spc="-1" strike="noStrike">
                <a:solidFill>
                  <a:srgbClr val="cc00cc"/>
                </a:solidFill>
                <a:latin typeface="Georgia"/>
              </a:rPr>
              <a:t> of Samos (that’s the Greek island where he was bo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421200">
            <a:off x="6659280" y="234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21114000">
            <a:off x="2916000" y="3284280"/>
            <a:ext cx="33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orn: 582-580 BC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ied: 547-496 B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76200">
            <a:off x="1834920" y="57340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Georgia"/>
              </a:rPr>
              <a:t>Tradition: Pythagore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2708280"/>
            <a:ext cx="23781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ff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21344400">
            <a:off x="611280" y="620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cc"/>
                </a:solidFill>
                <a:latin typeface="Arial"/>
              </a:rPr>
              <a:t>He had a wife named Theano (a mathematician), two daught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55200">
            <a:off x="3635280" y="1412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66ff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9966ff"/>
                </a:solidFill>
                <a:latin typeface="Arial"/>
              </a:rPr>
              <a:t>and a slave named Zalmo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4005360"/>
            <a:ext cx="2736720" cy="2232000"/>
          </a:xfrm>
          <a:prstGeom prst="wedgeRoundRectCallout">
            <a:avLst>
              <a:gd name="adj1" fmla="val -86194"/>
              <a:gd name="adj2" fmla="val -259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luen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</a:rPr>
              <a:t>Tha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</a:rPr>
              <a:t>Anaximand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</a:rPr>
              <a:t>Pherecy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0"/>
            <a:ext cx="4032360" cy="2592360"/>
          </a:xfrm>
          <a:prstGeom prst="cloudCallout">
            <a:avLst>
              <a:gd name="adj1" fmla="val 88583"/>
              <a:gd name="adj2" fmla="val 5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uenced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ilolau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cmae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a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ucli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Archytas, Empedocles, Hippasus, Neoplatonics, Ke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24908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 rot="21294600">
            <a:off x="5866920" y="2421000"/>
            <a:ext cx="2295720" cy="218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2602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doni MT Black"/>
              </a:rPr>
              <a:t>Pythagoras was a weird m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82000">
            <a:off x="610920" y="1267920"/>
            <a:ext cx="50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He believed that ones soul was going to be reincarnated into human, animal or vege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382800">
            <a:off x="5127120" y="2493720"/>
            <a:ext cx="38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o he was a vegetarian, and he also refused to eat beans, as he thought human-souls were in th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383400">
            <a:off x="323640" y="5373360"/>
            <a:ext cx="59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His way of dressing was rather unusual for the time. He wore a gold diadem, a sweeping white robe and trousers, which was not com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380400">
            <a:off x="5076000" y="2421000"/>
            <a:ext cx="4067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nother thing he refused was to eat bread unless it was cut in a certain 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130500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8287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77080" y="3860640"/>
            <a:ext cx="1219320" cy="1247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00720" y="4005360"/>
            <a:ext cx="1296720" cy="102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211640" y="2997360"/>
            <a:ext cx="1147680" cy="143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rot="21150000">
            <a:off x="5940000" y="5805360"/>
            <a:ext cx="619200" cy="8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druid art"/>
          <p:cNvPicPr/>
          <p:nvPr/>
        </p:nvPicPr>
        <p:blipFill>
          <a:blip r:embed="rId7"/>
          <a:stretch/>
        </p:blipFill>
        <p:spPr>
          <a:xfrm rot="21370200">
            <a:off x="2195280" y="4005000"/>
            <a:ext cx="104760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5000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20998800">
            <a:off x="0" y="4759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Rockwell Extra Bold"/>
              </a:rPr>
              <a:t>Pythagoras’ notabl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Rockwell Extra Bold"/>
              </a:rPr>
              <a:t>THE GOLDEN RATI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12682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Rockwell Extra Bold"/>
              </a:rPr>
              <a:t>MUSICA UNIVERS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242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Rockwell Extra Bold"/>
              </a:rPr>
              <a:t>PYTHAGOREAN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601200">
            <a:off x="2626920" y="386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Rounded MT Bold"/>
              </a:rPr>
              <a:t>Main inte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724280"/>
            <a:ext cx="43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Arial Rounded MT Bold"/>
              </a:rPr>
              <a:t>MET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566100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Rounded MT Bold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501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Arial Rounded MT Bold"/>
              </a:rPr>
              <a:t>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450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ff"/>
                </a:solidFill>
                <a:latin typeface="Arial Rounded MT Bold"/>
              </a:rPr>
              <a:t>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5950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 Rounded MT Bold"/>
              </a:rPr>
              <a:t>ETH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000" y="333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orte"/>
              </a:rPr>
              <a:t>Pythagoras’ Theore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052640"/>
            <a:ext cx="3240000" cy="2952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2276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429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1773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09320" y="5248440"/>
            <a:ext cx="43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66ff"/>
                </a:solidFill>
                <a:latin typeface="Arial"/>
              </a:rPr>
              <a:t>Pythagoras proposed that c  = a   + b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157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5157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4520" y="515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948360" y="3141720"/>
            <a:ext cx="141768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16360" y="258588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1190520" cy="115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43640" y="765000"/>
            <a:ext cx="2232000" cy="1079640"/>
          </a:xfrm>
          <a:prstGeom prst="wedgeEllipseCallout">
            <a:avLst>
              <a:gd name="adj1" fmla="val -63226"/>
              <a:gd name="adj2" fmla="val 48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t’s the hypotenu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2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6206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orgia"/>
              </a:rPr>
              <a:t>Meaning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1989000"/>
            <a:ext cx="2089080" cy="2232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221000"/>
            <a:ext cx="2089080" cy="172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1989000"/>
            <a:ext cx="2303640" cy="22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805600">
            <a:off x="3917520" y="842040"/>
            <a:ext cx="3012840" cy="2712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4076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4640" y="2538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440" y="3500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8160" y="2421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4520" y="4797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2852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2072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272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256536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62864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458136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28464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321300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59640" y="3645000"/>
            <a:ext cx="1919160" cy="210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4581360"/>
            <a:ext cx="205740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4 -0.10497 E">
                                      <p:cBhvr>
                                        <p:cTn id="45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361 0 E">
                                      <p:cBhvr>
                                        <p:cTn id="45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0474 E">
                                      <p:cBhvr>
                                        <p:cTn id="46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361 -0.08393 E">
                                      <p:cBhvr>
                                        <p:cTn id="46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.10497 E">
                                      <p:cBhvr>
                                        <p:cTn id="46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01434 L -0.11424 0.08763 E">
                                      <p:cBhvr>
                                        <p:cTn id="54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734 L -0.15348 -0.20601 E">
                                      <p:cBhvr>
                                        <p:cTn id="54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2497 L -0.02361 0.23468 E">
                                      <p:cBhvr>
                                        <p:cTn id="54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rot="21352800">
            <a:off x="1476000" y="765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cc"/>
                </a:solidFill>
                <a:latin typeface="Georgia"/>
              </a:rPr>
              <a:t>This will work with any right angled triang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3168360" cy="276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87640" y="5661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cc"/>
                </a:solidFill>
                <a:latin typeface="Georgia"/>
              </a:rPr>
              <a:t>TRY IT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23:00:57Z</dcterms:created>
  <dc:creator>EJ</dc:creator>
  <dc:description/>
  <dc:language>en-US</dc:language>
  <cp:lastModifiedBy>EJ</cp:lastModifiedBy>
  <dcterms:modified xsi:type="dcterms:W3CDTF">2007-03-04T16:24:42Z</dcterms:modified>
  <cp:revision>13</cp:revision>
  <dc:subject/>
  <dc:title>Pythagoras</dc:title>
</cp:coreProperties>
</file>